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9870A0E9-C35B-42E4-9B36-6621D8EB95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4724280"/>
            <a:ext cx="4943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449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-57780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124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279440" y="6375240"/>
            <a:ext cx="7467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2E16181E-BCF0-4D81-84E0-C93991819C63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9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nterneti rakenduste tehnoloog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7" descr="http://imgs.xkcd.com/comics/the_important_field.png"/>
          <p:cNvPicPr/>
          <p:nvPr/>
        </p:nvPicPr>
        <p:blipFill>
          <a:blip r:embed="rId1"/>
          <a:stretch/>
        </p:blipFill>
        <p:spPr>
          <a:xfrm>
            <a:off x="1371600" y="3124080"/>
            <a:ext cx="6734160" cy="292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ust lugeda brauseri-tehnoloogiat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metlikud standardid: http://www.w3.org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orialid: http://www.w3schools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orialid: http://www.codecademy.com/tracks/web </a:t>
            </a:r>
            <a:r>
              <a:rPr b="0" lang="en-GB" sz="1600" spc="-1" strike="noStrike">
                <a:solidFill>
                  <a:srgbClr val="ffffff"/>
                </a:solidFill>
                <a:latin typeface="Bitstream Vera Sans"/>
              </a:rPr>
              <a:t>erimisk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5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5080" indent="-325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ksti paigutamise / lehe kujundamis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e: http://www.w3schools.com/html/default.asp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elmine ametlik 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dard: http://www.w3.org/TR/html401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us ametlik standard on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ML5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www.w3.org/TR/html5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mplekt uusi kasulikke tehnoloogia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XHTML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aktiliselt seesama, mis HTML (samad tag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gid peavad olema väikeste täht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b olema korrektses XML süntaksis (tagi suletu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ar XML-i lisaknihvi ka (namespace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i ole eriti mainstream või eriti laialt kasutat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5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ti täpset teksti paigutust ja kujundust võimaldav keel HTML täienduse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cs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6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3" name="Picture 8" descr="http://images.cdn.bigcartel.com/bigcartel/product_images/66597677/max_h-1000+max_w-1000/CSStoHTMLSlate_2445.jpg"/>
          <p:cNvPicPr/>
          <p:nvPr/>
        </p:nvPicPr>
        <p:blipFill>
          <a:blip r:embed="rId1"/>
          <a:stretch/>
        </p:blipFill>
        <p:spPr>
          <a:xfrm>
            <a:off x="3068640" y="3200400"/>
            <a:ext cx="309420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auseri programmeerimiskeel: javascripti programmid töötavad otse brauseris: muudavad htmli, css-i, võtavad ühendust serveriga jn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j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6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AutoShape 8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3448080" y="396252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, CSS, asynchronous queri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b: HTML+CSS+Javascript+async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rono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õte selles, et saad brauseris javascriptiga avada serveri urli a la ni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etch("http://dijkstra.cs.ttu.ee/~tammet/cgi-bin/fetch.py", {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thod: "post",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body: gam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}).then(r=&gt;r.text()).then(handlestore)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 siis brauseris saadud teksti või andmetega (tüüpiliselt javascripti formaadis ehk jsonis) edasi tegutsed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ähtis: seni, kui datat tõmmatakse, sinu javascripti programm ei hangu, vaid käib normaalselt edasi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Bitstream Vera Sans"/>
              </a:rPr>
              <a:t>Ja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7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&lt;nimi&gt;A Le Coq&lt;/nimi&gt;&lt;linn&gt;Tartu&lt;/linn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ruktureeritud teksti esitamise formaa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aab kasutada andmete esitamiseks teksti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ga veidi kohmakas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82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 Object Nota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[1,2,“siin on tekst“, [“sisemine“,5], 10]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“Peeter“,  “pikkus“: 180, “hinded“: [5,3,2] }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sitamise formaa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teksti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i programmeerimiskeele „native“ andmestruktuu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g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l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mugav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asajal brauserirakendustes eelistatum kui X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8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line probleem andmete esitamis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l on mingid andm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id on vaja faili kirja panna ja hiljem arvutiga töödelda ja teistele  edasi sa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info mingi õllesordi koht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92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Oval 6"/>
          <p:cNvSpPr/>
          <p:nvPr/>
        </p:nvSpPr>
        <p:spPr>
          <a:xfrm>
            <a:off x="1928880" y="237168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2711520" y="2905200"/>
            <a:ext cx="2306520" cy="658800"/>
            <a:chOff x="2711520" y="2905200"/>
            <a:chExt cx="2306520" cy="658800"/>
          </a:xfrm>
        </p:grpSpPr>
        <p:sp>
          <p:nvSpPr>
            <p:cNvPr id="196" name="AutoShape 8"/>
            <p:cNvSpPr/>
            <p:nvPr/>
          </p:nvSpPr>
          <p:spPr>
            <a:xfrm>
              <a:off x="2711520" y="2905200"/>
              <a:ext cx="2306520" cy="658800"/>
            </a:xfrm>
            <a:prstGeom prst="roundRect">
              <a:avLst>
                <a:gd name="adj" fmla="val 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AutoShape 9"/>
            <p:cNvSpPr/>
            <p:nvPr/>
          </p:nvSpPr>
          <p:spPr>
            <a:xfrm>
              <a:off x="3134160" y="2905200"/>
              <a:ext cx="1299240" cy="39888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tu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10"/>
          <p:cNvGrpSpPr/>
          <p:nvPr/>
        </p:nvGrpSpPr>
        <p:grpSpPr>
          <a:xfrm>
            <a:off x="2394720" y="4871880"/>
            <a:ext cx="3404520" cy="635040"/>
            <a:chOff x="2394720" y="4871880"/>
            <a:chExt cx="3404520" cy="635040"/>
          </a:xfrm>
        </p:grpSpPr>
        <p:sp>
          <p:nvSpPr>
            <p:cNvPr id="199" name="AutoShape 11"/>
            <p:cNvSpPr/>
            <p:nvPr/>
          </p:nvSpPr>
          <p:spPr>
            <a:xfrm>
              <a:off x="2419200" y="4871880"/>
              <a:ext cx="3380040" cy="635040"/>
            </a:xfrm>
            <a:prstGeom prst="roundRect">
              <a:avLst>
                <a:gd name="adj" fmla="val 2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AutoShape 12"/>
            <p:cNvSpPr/>
            <p:nvPr/>
          </p:nvSpPr>
          <p:spPr>
            <a:xfrm>
              <a:off x="2394720" y="4871880"/>
              <a:ext cx="2441520" cy="573840"/>
            </a:xfrm>
            <a:prstGeom prst="roundRect">
              <a:avLst>
                <a:gd name="adj" fmla="val 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Järsumaitsel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4964760" y="4213080"/>
            <a:ext cx="1308960" cy="584280"/>
            <a:chOff x="4964760" y="4213080"/>
            <a:chExt cx="1308960" cy="584280"/>
          </a:xfrm>
        </p:grpSpPr>
        <p:sp>
          <p:nvSpPr>
            <p:cNvPr id="202" name="AutoShape 14"/>
            <p:cNvSpPr/>
            <p:nvPr/>
          </p:nvSpPr>
          <p:spPr>
            <a:xfrm>
              <a:off x="4970520" y="4213080"/>
              <a:ext cx="1303200" cy="58428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4964760" y="4213080"/>
              <a:ext cx="126756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5.4 kraa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5033160" y="3505320"/>
            <a:ext cx="1072440" cy="583920"/>
            <a:chOff x="5033160" y="3505320"/>
            <a:chExt cx="1072440" cy="583920"/>
          </a:xfrm>
        </p:grpSpPr>
        <p:sp>
          <p:nvSpPr>
            <p:cNvPr id="205" name="AutoShape 17"/>
            <p:cNvSpPr/>
            <p:nvPr/>
          </p:nvSpPr>
          <p:spPr>
            <a:xfrm>
              <a:off x="5033880" y="3505320"/>
              <a:ext cx="1071720" cy="58392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AutoShape 18"/>
            <p:cNvSpPr/>
            <p:nvPr/>
          </p:nvSpPr>
          <p:spPr>
            <a:xfrm>
              <a:off x="5033160" y="3505320"/>
              <a:ext cx="86220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or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Group 19"/>
          <p:cNvGrpSpPr/>
          <p:nvPr/>
        </p:nvGrpSpPr>
        <p:grpSpPr>
          <a:xfrm>
            <a:off x="4220280" y="3835440"/>
            <a:ext cx="748440" cy="560520"/>
            <a:chOff x="4220280" y="3835440"/>
            <a:chExt cx="748440" cy="560520"/>
          </a:xfrm>
        </p:grpSpPr>
        <p:sp>
          <p:nvSpPr>
            <p:cNvPr id="208" name="AutoShape 20"/>
            <p:cNvSpPr/>
            <p:nvPr/>
          </p:nvSpPr>
          <p:spPr>
            <a:xfrm>
              <a:off x="4227480" y="3835440"/>
              <a:ext cx="741240" cy="560520"/>
            </a:xfrm>
            <a:prstGeom prst="roundRect">
              <a:avLst>
                <a:gd name="adj" fmla="val 28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>
              <a:off x="4220280" y="3835440"/>
              <a:ext cx="697320" cy="32976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8.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Group 22"/>
          <p:cNvGrpSpPr/>
          <p:nvPr/>
        </p:nvGrpSpPr>
        <p:grpSpPr>
          <a:xfrm>
            <a:off x="2013480" y="3811680"/>
            <a:ext cx="1942560" cy="461880"/>
            <a:chOff x="2013480" y="3811680"/>
            <a:chExt cx="1942560" cy="461880"/>
          </a:xfrm>
        </p:grpSpPr>
        <p:sp>
          <p:nvSpPr>
            <p:cNvPr id="211" name="AutoShape 23"/>
            <p:cNvSpPr/>
            <p:nvPr/>
          </p:nvSpPr>
          <p:spPr>
            <a:xfrm>
              <a:off x="2030400" y="3811680"/>
              <a:ext cx="1925640" cy="46188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AutoShape 24"/>
            <p:cNvSpPr/>
            <p:nvPr/>
          </p:nvSpPr>
          <p:spPr>
            <a:xfrm>
              <a:off x="2013480" y="3811680"/>
              <a:ext cx="1761120" cy="3297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õllevabri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seda faili kirja pann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1: inimkeelse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ia tumeda tootja on Nuia õllevabrik. Porteri tüüpi õlu. Kangus 5.4 kraadi. Järsumaitseline. Hind 8.9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ks hea variant, aga arvutiga praktiliselt lootusetu töödel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2: CSV (comma separated values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uia tume”, “Nuia õllevabrik”, Porter, 8.90, 5.4, Järsumaitsel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s hea ja väga levinud varia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 ei saa öelda, mis tähestikus (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õ, ä jne kodeering)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ja on eraldi öelda, mida väljad tähendavad (selleks saab kasutada päiserida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probleem: järgmisel slaid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1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V ja muude tabelkujude põhiprobl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840960"/>
            <a:ext cx="7848720" cy="62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SV ja muud tabeliformaadid esitavad infot tabelin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ei sobi hästi, kui tabeli ruutudes peaks olema alamtabel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haksime sisestada aadressi: riik, linn/küla, tänav, maja/k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nna juures on hinnaühik (EEK, EUR,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QL andmebaasides kasutatakse siis abitabeleid ja neid siduvaid kunstlikke ID-numbreid, mis pole seotud algse data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2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AutoShape 6"/>
          <p:cNvSpPr/>
          <p:nvPr/>
        </p:nvSpPr>
        <p:spPr>
          <a:xfrm>
            <a:off x="1782720" y="1623960"/>
            <a:ext cx="5178600" cy="212580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2454120" y="1660680"/>
            <a:ext cx="18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337032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4371840" y="1673280"/>
            <a:ext cx="180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551988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1808280" y="2050920"/>
            <a:ext cx="511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1820880" y="24908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1832040" y="30290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rakendused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ldetuletus: baasprotokollid, HTTP protoko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ML kee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e tõmbamine ja serveerimin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tõmm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saatmine serverile: cgi protoko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brauseril sees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css, javascrip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baastehn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WebGL, canvas, pisiandmebaasid, 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veel hulk eritehnoloogia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sintöödeldav andmete esitamine: JSON j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e tähendus ehk semantik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838080" y="371520"/>
            <a:ext cx="7769520" cy="318960"/>
            <a:chOff x="838080" y="371520"/>
            <a:chExt cx="7769520" cy="318960"/>
          </a:xfrm>
        </p:grpSpPr>
        <p:sp>
          <p:nvSpPr>
            <p:cNvPr id="58" name="Line 4"/>
            <p:cNvSpPr/>
            <p:nvPr/>
          </p:nvSpPr>
          <p:spPr>
            <a:xfrm>
              <a:off x="838080" y="6825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Line 5"/>
            <p:cNvSpPr/>
            <p:nvPr/>
          </p:nvSpPr>
          <p:spPr>
            <a:xfrm flipV="1">
              <a:off x="8607600" y="371520"/>
              <a:ext cx="0" cy="3189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viis eelmist infot kirja pa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-s “pakitakse” infoväljad kirjeldavate nn 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de vahe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Nuia õllevabrik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saab töödelda arvutiga nagu CSV-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inimesele kohmakas lugeda, kuid siiski üheselt arusaada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inus: tekst on pikem,  kui CSV puhul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st saab üle: kokkusurumine (zip, gz, jms pakkija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34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a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39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Text Box 6"/>
          <p:cNvSpPr/>
          <p:nvPr/>
        </p:nvSpPr>
        <p:spPr>
          <a:xfrm>
            <a:off x="2111400" y="1855800"/>
            <a:ext cx="5178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3320" indent="-274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ootja&gt;Nuia õllevabrik&lt;/tootja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 flipV="1">
            <a:off x="2685960" y="226044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090880" y="4041720"/>
            <a:ext cx="1005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t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5595840" y="4114800"/>
            <a:ext cx="9334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õput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6094440" y="2284200"/>
            <a:ext cx="1440" cy="16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1"/>
          <p:cNvSpPr/>
          <p:nvPr/>
        </p:nvSpPr>
        <p:spPr>
          <a:xfrm flipV="1">
            <a:off x="4275000" y="227484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00068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13"/>
          <p:cNvSpPr/>
          <p:nvPr/>
        </p:nvSpPr>
        <p:spPr>
          <a:xfrm>
            <a:off x="1693800" y="4948200"/>
            <a:ext cx="5886360" cy="341280"/>
          </a:xfrm>
          <a:custGeom>
            <a:avLst/>
            <a:gdLst/>
            <a:ahLst/>
            <a:rect l="l" t="t" r="r" b="b"/>
            <a:pathLst>
              <a:path w="16353" h="950">
                <a:moveTo>
                  <a:pt x="16352" y="0"/>
                </a:moveTo>
                <a:cubicBezTo>
                  <a:pt x="16352" y="237"/>
                  <a:pt x="15671" y="474"/>
                  <a:pt x="14990" y="474"/>
                </a:cubicBezTo>
                <a:lnTo>
                  <a:pt x="9539" y="474"/>
                </a:lnTo>
                <a:cubicBezTo>
                  <a:pt x="8858" y="474"/>
                  <a:pt x="8176" y="711"/>
                  <a:pt x="8176" y="949"/>
                </a:cubicBezTo>
                <a:cubicBezTo>
                  <a:pt x="8176" y="711"/>
                  <a:pt x="7495" y="474"/>
                  <a:pt x="6814" y="474"/>
                </a:cubicBezTo>
                <a:lnTo>
                  <a:pt x="1363" y="474"/>
                </a:lnTo>
                <a:cubicBezTo>
                  <a:pt x="682" y="474"/>
                  <a:pt x="0" y="23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15476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gide põhiee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did võivad sisaldada teisi element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üla&gt;Nuia&lt;/kül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änav&gt;Tallinna mnt&lt;/tänav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ja&gt;2&lt;/ma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53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 ja 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pannakse “tag”-ide vahele: infol on sild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  “tag”-del visuaalne semantik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st tähendus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b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pak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b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i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kaldkirja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i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:   “tag”-del semantika puudu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autor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autor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minuaadress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v 9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minuaadress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58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 ja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elmisel kümnendil muutus XML väga populaarseks andme-esituskeel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hakati kasutama hulka keerulisi lisatehnoloogiad: XSLT, SOAP, XML Schema, UDDI jne, mis muutsid asja keerulis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muutus populaarseks JSON kui hulga lihtsam andme-esituskeel: lihtsalt javascripti andmesüntaks, väga sarnane pythoni süntaksile a l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 “Tanel“,  “kursused“: [“itv0010“, “itv100“]}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egu kasutatakse mõlemat, aga JSON on palju populaarsem. Laiatarbe-süsteemid a la Google pakuvad enamasti JSON-is andme-es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63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rask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eha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mis loeks teisest serverist HTML-lehekülg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leiaks nende sisust kergesti vajaliku inf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ahe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teeme võrgulehekülg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ihtsalt andmetekstina jsonis või xmli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i et programm teises arvutis suudaks neid luged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68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Group 6"/>
          <p:cNvGrpSpPr/>
          <p:nvPr/>
        </p:nvGrpSpPr>
        <p:grpSpPr>
          <a:xfrm>
            <a:off x="1905120" y="3962520"/>
            <a:ext cx="455400" cy="531720"/>
            <a:chOff x="1905120" y="3962520"/>
            <a:chExt cx="455400" cy="531720"/>
          </a:xfrm>
        </p:grpSpPr>
        <p:sp>
          <p:nvSpPr>
            <p:cNvPr id="271" name="Freeform 7"/>
            <p:cNvSpPr/>
            <p:nvPr/>
          </p:nvSpPr>
          <p:spPr>
            <a:xfrm>
              <a:off x="1905120" y="3962520"/>
              <a:ext cx="455400" cy="53172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8"/>
            <p:cNvSpPr/>
            <p:nvPr/>
          </p:nvSpPr>
          <p:spPr>
            <a:xfrm>
              <a:off x="2035080" y="4119480"/>
              <a:ext cx="478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9"/>
            <p:cNvSpPr/>
            <p:nvPr/>
          </p:nvSpPr>
          <p:spPr>
            <a:xfrm>
              <a:off x="2182680" y="4119480"/>
              <a:ext cx="478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10"/>
            <p:cNvSpPr/>
            <p:nvPr/>
          </p:nvSpPr>
          <p:spPr>
            <a:xfrm>
              <a:off x="2008080" y="4344840"/>
              <a:ext cx="25092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5" name="Picture 11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"/>
          <p:cNvSpPr/>
          <p:nvPr/>
        </p:nvSpPr>
        <p:spPr>
          <a:xfrm>
            <a:off x="604836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381060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16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17"/>
          <p:cNvSpPr/>
          <p:nvPr/>
        </p:nvSpPr>
        <p:spPr>
          <a:xfrm flipV="1">
            <a:off x="4952880" y="3267000"/>
            <a:ext cx="1447920" cy="781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18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cc0000"/>
                </a:solidFill>
                <a:latin typeface="Arial"/>
              </a:rPr>
              <a:t>J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cc0000"/>
                </a:solidFill>
                <a:latin typeface="Arial"/>
              </a:rPr>
              <a:t>J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manti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e veeb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: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w3c vana suur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jek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3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ni ei ole läinud nii hästi, kui loodet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esmärk: pakkud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e esita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keeli ja luua standardeid, mille abil kirjeldada asju (internetis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av tulemus: saab teha tarkvara, mille abil datat saab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ergest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t programmist teise saata, nii et info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 mõt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duma ei läh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majoones vaja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bjektide kirjeldamis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istete omavaheliste seoste ja reeglit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jekti juht:   Tim Berners-Lee (http, www ja esimese brauseri autor, w3c juht)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89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emantic webi planeeritud k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hili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estust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keel (Owl ja tema alamhulga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jade kirjelduskeel (RDF ja RDF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mede unikaliseerimine (namespac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ntaks (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JSON, turtle, 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port (http, https, SOAP, tcp/ip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94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AutoShape 6"/>
          <p:cNvSpPr/>
          <p:nvPr/>
        </p:nvSpPr>
        <p:spPr>
          <a:xfrm>
            <a:off x="1143000" y="1752480"/>
            <a:ext cx="5943600" cy="3657600"/>
          </a:xfrm>
          <a:prstGeom prst="roundRect">
            <a:avLst>
              <a:gd name="adj" fmla="val 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n keeruline osa semantilise veebi projektis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90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rogramm peab teise programmi antud XML-ist SISULISELT aru saam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llepartiide otsimise serv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A annab infot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Hulgimüüja b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           &lt;mark&gt;Guinness&lt;/mar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                      &lt;hind&gt;100&lt;/hind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&lt;/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C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0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rinev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4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teadma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            =        Õ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ER   on ka    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lootust teha “ette valmis” kõiki keel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olemas alamkeeled (üldine toodete keel, õllede keel Eestis, Tshehhis, Hiinas, õllede keel Tartu Õllevabrikus ja Sakus,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i on vaja omavahel tõlki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lkimiseks on vaja reegleid ja elementaarset arusaa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05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838080" y="371520"/>
            <a:ext cx="7769520" cy="318960"/>
            <a:chOff x="838080" y="371520"/>
            <a:chExt cx="7769520" cy="318960"/>
          </a:xfrm>
        </p:grpSpPr>
        <p:sp>
          <p:nvSpPr>
            <p:cNvPr id="63" name="Line 4"/>
            <p:cNvSpPr/>
            <p:nvPr/>
          </p:nvSpPr>
          <p:spPr>
            <a:xfrm>
              <a:off x="838080" y="6825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5"/>
            <p:cNvSpPr/>
            <p:nvPr/>
          </p:nvSpPr>
          <p:spPr>
            <a:xfrm flipV="1">
              <a:off x="8607600" y="371520"/>
              <a:ext cx="0" cy="3189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Group 6"/>
          <p:cNvGrpSpPr/>
          <p:nvPr/>
        </p:nvGrpSpPr>
        <p:grpSpPr>
          <a:xfrm>
            <a:off x="2971800" y="5638680"/>
            <a:ext cx="3579840" cy="455760"/>
            <a:chOff x="2971800" y="5638680"/>
            <a:chExt cx="3579840" cy="455760"/>
          </a:xfrm>
        </p:grpSpPr>
        <p:sp>
          <p:nvSpPr>
            <p:cNvPr id="66" name="AutoShape 7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Group 9"/>
          <p:cNvGrpSpPr/>
          <p:nvPr/>
        </p:nvGrpSpPr>
        <p:grpSpPr>
          <a:xfrm>
            <a:off x="2971800" y="5029200"/>
            <a:ext cx="3579840" cy="455760"/>
            <a:chOff x="2971800" y="5029200"/>
            <a:chExt cx="3579840" cy="455760"/>
          </a:xfrm>
        </p:grpSpPr>
        <p:sp>
          <p:nvSpPr>
            <p:cNvPr id="69" name="AutoShape 10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1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2895480" y="4038480"/>
            <a:ext cx="3579840" cy="532080"/>
            <a:chOff x="2895480" y="4038480"/>
            <a:chExt cx="3579840" cy="532080"/>
          </a:xfrm>
        </p:grpSpPr>
        <p:sp>
          <p:nvSpPr>
            <p:cNvPr id="72" name="AutoShape 13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133720" y="2666880"/>
            <a:ext cx="1598400" cy="760680"/>
            <a:chOff x="2133720" y="2666880"/>
            <a:chExt cx="1598400" cy="760680"/>
          </a:xfrm>
        </p:grpSpPr>
        <p:sp>
          <p:nvSpPr>
            <p:cNvPr id="75" name="AutoShape 16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AutoShape 17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5562720" y="2743200"/>
            <a:ext cx="1598400" cy="760320"/>
            <a:chOff x="5562720" y="2743200"/>
            <a:chExt cx="1598400" cy="760320"/>
          </a:xfrm>
        </p:grpSpPr>
        <p:sp>
          <p:nvSpPr>
            <p:cNvPr id="78" name="AutoShape 19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1219320" y="1600200"/>
            <a:ext cx="1065240" cy="684360"/>
            <a:chOff x="1219320" y="1600200"/>
            <a:chExt cx="1065240" cy="684360"/>
          </a:xfrm>
        </p:grpSpPr>
        <p:sp>
          <p:nvSpPr>
            <p:cNvPr id="81" name="AutoShape 22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3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Group 24"/>
          <p:cNvGrpSpPr/>
          <p:nvPr/>
        </p:nvGrpSpPr>
        <p:grpSpPr>
          <a:xfrm>
            <a:off x="2438280" y="1600200"/>
            <a:ext cx="1065240" cy="684360"/>
            <a:chOff x="2438280" y="1600200"/>
            <a:chExt cx="1065240" cy="684360"/>
          </a:xfrm>
        </p:grpSpPr>
        <p:sp>
          <p:nvSpPr>
            <p:cNvPr id="84" name="AutoShape 25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6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7"/>
          <p:cNvGrpSpPr/>
          <p:nvPr/>
        </p:nvGrpSpPr>
        <p:grpSpPr>
          <a:xfrm>
            <a:off x="3657600" y="1600200"/>
            <a:ext cx="1065240" cy="684360"/>
            <a:chOff x="3657600" y="1600200"/>
            <a:chExt cx="1065240" cy="684360"/>
          </a:xfrm>
        </p:grpSpPr>
        <p:sp>
          <p:nvSpPr>
            <p:cNvPr id="87" name="AutoShape 28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AutoShape 29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30"/>
          <p:cNvGrpSpPr/>
          <p:nvPr/>
        </p:nvGrpSpPr>
        <p:grpSpPr>
          <a:xfrm>
            <a:off x="5334120" y="1600200"/>
            <a:ext cx="1065240" cy="684360"/>
            <a:chOff x="5334120" y="1600200"/>
            <a:chExt cx="1065240" cy="684360"/>
          </a:xfrm>
        </p:grpSpPr>
        <p:sp>
          <p:nvSpPr>
            <p:cNvPr id="90" name="AutoShape 31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utoShape 32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33"/>
          <p:cNvGrpSpPr/>
          <p:nvPr/>
        </p:nvGrpSpPr>
        <p:grpSpPr>
          <a:xfrm>
            <a:off x="6705720" y="1600200"/>
            <a:ext cx="1065240" cy="684360"/>
            <a:chOff x="6705720" y="1600200"/>
            <a:chExt cx="1065240" cy="684360"/>
          </a:xfrm>
        </p:grpSpPr>
        <p:sp>
          <p:nvSpPr>
            <p:cNvPr id="93" name="AutoShape 34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AutoShape 35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Freeform 36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37"/>
          <p:cNvSpPr/>
          <p:nvPr/>
        </p:nvSpPr>
        <p:spPr>
          <a:xfrm flipV="1">
            <a:off x="1066680" y="4026960"/>
            <a:ext cx="838440" cy="13179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38"/>
          <p:cNvSpPr/>
          <p:nvPr/>
        </p:nvSpPr>
        <p:spPr>
          <a:xfrm>
            <a:off x="12384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39"/>
          <p:cNvSpPr/>
          <p:nvPr/>
        </p:nvSpPr>
        <p:spPr>
          <a:xfrm flipH="1" flipV="1">
            <a:off x="3189240" y="3494160"/>
            <a:ext cx="403200" cy="403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40"/>
          <p:cNvSpPr/>
          <p:nvPr/>
        </p:nvSpPr>
        <p:spPr>
          <a:xfrm flipV="1">
            <a:off x="5410080" y="3569760"/>
            <a:ext cx="38124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1"/>
          <p:cNvSpPr/>
          <p:nvPr/>
        </p:nvSpPr>
        <p:spPr>
          <a:xfrm flipV="1">
            <a:off x="6629400" y="2351160"/>
            <a:ext cx="38088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42"/>
          <p:cNvSpPr/>
          <p:nvPr/>
        </p:nvSpPr>
        <p:spPr>
          <a:xfrm flipH="1" flipV="1">
            <a:off x="6008400" y="2351160"/>
            <a:ext cx="17460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43"/>
          <p:cNvSpPr/>
          <p:nvPr/>
        </p:nvSpPr>
        <p:spPr>
          <a:xfrm flipH="1" flipV="1">
            <a:off x="2122200" y="2274480"/>
            <a:ext cx="17460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 flipV="1">
            <a:off x="2895480" y="2350800"/>
            <a:ext cx="1800" cy="250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45"/>
          <p:cNvSpPr/>
          <p:nvPr/>
        </p:nvSpPr>
        <p:spPr>
          <a:xfrm flipV="1">
            <a:off x="3429000" y="2274480"/>
            <a:ext cx="30492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46"/>
          <p:cNvSpPr/>
          <p:nvPr/>
        </p:nvSpPr>
        <p:spPr>
          <a:xfrm flipV="1">
            <a:off x="4648320" y="4637160"/>
            <a:ext cx="144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47"/>
          <p:cNvSpPr/>
          <p:nvPr/>
        </p:nvSpPr>
        <p:spPr>
          <a:xfrm flipV="1">
            <a:off x="4648320" y="5474880"/>
            <a:ext cx="1440" cy="174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48"/>
          <p:cNvSpPr/>
          <p:nvPr/>
        </p:nvSpPr>
        <p:spPr>
          <a:xfrm flipH="1">
            <a:off x="6618240" y="5334120"/>
            <a:ext cx="86040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49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50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51"/>
          <p:cNvSpPr/>
          <p:nvPr/>
        </p:nvSpPr>
        <p:spPr>
          <a:xfrm flipV="1">
            <a:off x="609480" y="2274480"/>
            <a:ext cx="609840" cy="6318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2"/>
          <p:cNvSpPr/>
          <p:nvPr/>
        </p:nvSpPr>
        <p:spPr>
          <a:xfrm>
            <a:off x="0" y="2895480"/>
            <a:ext cx="2057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jade kirjeldamine: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11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-2797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courses.cs.ttu.ee/pages/Teadmisp%C3%B5hise_tarkvaraarenduse_meetodid_/_Methods_of_Knowledge_Based_Software_Development_2017#Knowledge_representa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-2797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õik kirjeldused on kolmikud:   [objekt,  omadus,  väärtus]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a la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1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lient_1    name           „John Brown“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lient_1    balance       200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lient_1     customer   client_2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lient_2    name          „Mike“ 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1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1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1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 ja RDF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84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htmli semantilisest annoteerimise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lgse html-teksti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Jaanus Kask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6024554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&lt;a href=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kask.googlepages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”&gt;kliki siia&lt;/a&gt;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emel on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siin masinloetavaks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ml-tekstiks RDFa järgi annoteeritul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about=”#jaanus_kask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property=”er:nimi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Jaanus Kask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property=”er:telefon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6024554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&lt;a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rel=”er:koduleht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ref=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kask.googlepages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”&gt;kliki siia&lt;/a&gt;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15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ehk mõistete hierarhiad ja lihtseo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http://schema.or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https://developers.google.com/search/docs/guides/intro-structured-dat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rink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3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emonad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3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gred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lsner      Porter     Bock 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Hops   Malts  .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 valdkondades on om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i peag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m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kõiki programme kasutama samu “standardontoloogiaid”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2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Line 6"/>
          <p:cNvSpPr/>
          <p:nvPr/>
        </p:nvSpPr>
        <p:spPr>
          <a:xfrm flipH="1">
            <a:off x="2657520" y="1905120"/>
            <a:ext cx="70488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7"/>
          <p:cNvSpPr/>
          <p:nvPr/>
        </p:nvSpPr>
        <p:spPr>
          <a:xfrm flipH="1">
            <a:off x="1666440" y="3276720"/>
            <a:ext cx="5526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2741760" y="3276720"/>
            <a:ext cx="14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3200400" y="32767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4267080" y="1676520"/>
            <a:ext cx="1905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1"/>
          <p:cNvSpPr/>
          <p:nvPr/>
        </p:nvSpPr>
        <p:spPr>
          <a:xfrm flipH="1">
            <a:off x="5022720" y="3352680"/>
            <a:ext cx="1684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5410080" y="33526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13"/>
          <p:cNvSpPr/>
          <p:nvPr/>
        </p:nvSpPr>
        <p:spPr>
          <a:xfrm>
            <a:off x="985680" y="2476440"/>
            <a:ext cx="6051600" cy="2303640"/>
          </a:xfrm>
          <a:custGeom>
            <a:avLst/>
            <a:gdLst/>
            <a:ahLst/>
            <a:rect l="l" t="t" r="r" b="b"/>
            <a:pathLst>
              <a:path w="16812" h="6399">
                <a:moveTo>
                  <a:pt x="12052" y="321"/>
                </a:moveTo>
                <a:cubicBezTo>
                  <a:pt x="11135" y="39"/>
                  <a:pt x="10403" y="48"/>
                  <a:pt x="9406" y="0"/>
                </a:cubicBezTo>
                <a:cubicBezTo>
                  <a:pt x="8017" y="22"/>
                  <a:pt x="6672" y="57"/>
                  <a:pt x="5292" y="180"/>
                </a:cubicBezTo>
                <a:cubicBezTo>
                  <a:pt x="4820" y="313"/>
                  <a:pt x="4348" y="343"/>
                  <a:pt x="3863" y="392"/>
                </a:cubicBezTo>
                <a:cubicBezTo>
                  <a:pt x="3329" y="551"/>
                  <a:pt x="2769" y="643"/>
                  <a:pt x="2218" y="714"/>
                </a:cubicBezTo>
                <a:cubicBezTo>
                  <a:pt x="2068" y="815"/>
                  <a:pt x="1931" y="859"/>
                  <a:pt x="1750" y="895"/>
                </a:cubicBezTo>
                <a:cubicBezTo>
                  <a:pt x="1671" y="948"/>
                  <a:pt x="1574" y="979"/>
                  <a:pt x="1499" y="1036"/>
                </a:cubicBezTo>
                <a:cubicBezTo>
                  <a:pt x="996" y="1415"/>
                  <a:pt x="1737" y="956"/>
                  <a:pt x="1177" y="1287"/>
                </a:cubicBezTo>
                <a:cubicBezTo>
                  <a:pt x="1009" y="1490"/>
                  <a:pt x="815" y="1706"/>
                  <a:pt x="604" y="1861"/>
                </a:cubicBezTo>
                <a:cubicBezTo>
                  <a:pt x="502" y="2108"/>
                  <a:pt x="366" y="2310"/>
                  <a:pt x="246" y="2540"/>
                </a:cubicBezTo>
                <a:cubicBezTo>
                  <a:pt x="119" y="2795"/>
                  <a:pt x="88" y="3095"/>
                  <a:pt x="0" y="3364"/>
                </a:cubicBezTo>
                <a:cubicBezTo>
                  <a:pt x="13" y="3655"/>
                  <a:pt x="13" y="4158"/>
                  <a:pt x="141" y="4471"/>
                </a:cubicBezTo>
                <a:cubicBezTo>
                  <a:pt x="176" y="4560"/>
                  <a:pt x="273" y="4608"/>
                  <a:pt x="321" y="4687"/>
                </a:cubicBezTo>
                <a:cubicBezTo>
                  <a:pt x="524" y="5040"/>
                  <a:pt x="855" y="5203"/>
                  <a:pt x="1248" y="5261"/>
                </a:cubicBezTo>
                <a:cubicBezTo>
                  <a:pt x="1583" y="5393"/>
                  <a:pt x="1918" y="5521"/>
                  <a:pt x="2253" y="5653"/>
                </a:cubicBezTo>
                <a:cubicBezTo>
                  <a:pt x="2548" y="5772"/>
                  <a:pt x="3611" y="5816"/>
                  <a:pt x="4004" y="5830"/>
                </a:cubicBezTo>
                <a:cubicBezTo>
                  <a:pt x="5053" y="5869"/>
                  <a:pt x="6103" y="5905"/>
                  <a:pt x="7153" y="5940"/>
                </a:cubicBezTo>
                <a:cubicBezTo>
                  <a:pt x="8903" y="6156"/>
                  <a:pt x="10650" y="6222"/>
                  <a:pt x="12414" y="6297"/>
                </a:cubicBezTo>
                <a:cubicBezTo>
                  <a:pt x="12956" y="6363"/>
                  <a:pt x="13481" y="6398"/>
                  <a:pt x="14023" y="6297"/>
                </a:cubicBezTo>
                <a:cubicBezTo>
                  <a:pt x="14253" y="6253"/>
                  <a:pt x="14703" y="6152"/>
                  <a:pt x="14703" y="6152"/>
                </a:cubicBezTo>
                <a:cubicBezTo>
                  <a:pt x="14963" y="5944"/>
                  <a:pt x="15196" y="5949"/>
                  <a:pt x="15487" y="5724"/>
                </a:cubicBezTo>
                <a:cubicBezTo>
                  <a:pt x="15730" y="5534"/>
                  <a:pt x="15920" y="5362"/>
                  <a:pt x="16131" y="5150"/>
                </a:cubicBezTo>
                <a:cubicBezTo>
                  <a:pt x="16290" y="4992"/>
                  <a:pt x="16383" y="4855"/>
                  <a:pt x="16564" y="4723"/>
                </a:cubicBezTo>
                <a:cubicBezTo>
                  <a:pt x="16678" y="4489"/>
                  <a:pt x="16749" y="4299"/>
                  <a:pt x="16811" y="4044"/>
                </a:cubicBezTo>
                <a:cubicBezTo>
                  <a:pt x="16775" y="3532"/>
                  <a:pt x="16802" y="3497"/>
                  <a:pt x="16528" y="3148"/>
                </a:cubicBezTo>
                <a:cubicBezTo>
                  <a:pt x="16449" y="2937"/>
                  <a:pt x="16255" y="2804"/>
                  <a:pt x="16096" y="2646"/>
                </a:cubicBezTo>
                <a:cubicBezTo>
                  <a:pt x="15664" y="2213"/>
                  <a:pt x="15152" y="1790"/>
                  <a:pt x="14632" y="1468"/>
                </a:cubicBezTo>
                <a:cubicBezTo>
                  <a:pt x="14464" y="1248"/>
                  <a:pt x="14438" y="1336"/>
                  <a:pt x="14200" y="1217"/>
                </a:cubicBezTo>
                <a:cubicBezTo>
                  <a:pt x="13719" y="979"/>
                  <a:pt x="13216" y="776"/>
                  <a:pt x="12736" y="538"/>
                </a:cubicBezTo>
                <a:cubicBezTo>
                  <a:pt x="12639" y="489"/>
                  <a:pt x="12392" y="410"/>
                  <a:pt x="12303" y="392"/>
                </a:cubicBezTo>
                <a:cubicBezTo>
                  <a:pt x="12039" y="335"/>
                  <a:pt x="12052" y="445"/>
                  <a:pt x="12052" y="32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6934320" y="4114800"/>
            <a:ext cx="1598400" cy="1903320"/>
            <a:chOff x="6934320" y="4114800"/>
            <a:chExt cx="1598400" cy="1903320"/>
          </a:xfrm>
        </p:grpSpPr>
        <p:sp>
          <p:nvSpPr>
            <p:cNvPr id="116" name="AutoShape 5"/>
            <p:cNvSpPr/>
            <p:nvPr/>
          </p:nvSpPr>
          <p:spPr>
            <a:xfrm>
              <a:off x="6934320" y="4114800"/>
              <a:ext cx="1598400" cy="1903320"/>
            </a:xfrm>
            <a:custGeom>
              <a:avLst/>
              <a:gdLst>
                <a:gd name="textAreaLeft" fmla="*/ 360 w 1598400"/>
                <a:gd name="textAreaRight" fmla="*/ 1598040 w 159840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5720">
                  <a:moveTo>
                    <a:pt x="21" y="0"/>
                  </a:moveTo>
                  <a:arcTo wR="21" hR="21" stAng="16200000" swAng="-5400000"/>
                  <a:lnTo>
                    <a:pt x="0" y="25699"/>
                  </a:lnTo>
                  <a:arcTo wR="21" hR="21" stAng="10800000" swAng="-5400000"/>
                  <a:lnTo>
                    <a:pt x="21579" y="25720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6934320" y="4114800"/>
              <a:ext cx="1598400" cy="1903320"/>
            </a:xfrm>
            <a:custGeom>
              <a:avLst/>
              <a:gdLst>
                <a:gd name="textAreaLeft" fmla="*/ 360 w 1598400"/>
                <a:gd name="textAreaRight" fmla="*/ 1598040 w 159840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5720">
                  <a:moveTo>
                    <a:pt x="21" y="0"/>
                  </a:moveTo>
                  <a:arcTo wR="21" hR="21" stAng="16200000" swAng="-5400000"/>
                  <a:lnTo>
                    <a:pt x="0" y="25699"/>
                  </a:lnTo>
                  <a:arcTo wR="21" hR="21" stAng="10800000" swAng="-5400000"/>
                  <a:lnTo>
                    <a:pt x="21579" y="25720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AutoShape 7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H="1" flipV="1">
            <a:off x="3341520" y="2579760"/>
            <a:ext cx="3299040" cy="1393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83192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 veebilehtede põhikeel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õhimõtteliselt kujunduskeel, mitte programmeerimiskee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ea tutorial:  https://www.w3schools.com/html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rakenduste kursus me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lambda.ee/wiki/V%C3%B5rgurakendused_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utvume põhimõtetega loengus tehtavate näidete abi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2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lihtsat jav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python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odi näid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java.sun.com/docs/books/tutorial/networking/urls/readingURL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s://docs.python.org/2/howto/urllib2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oorlugemise tööriistad j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itaolised rakendus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g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yn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3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75960"/>
            <a:ext cx="78487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85120" indent="-285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ed on lihtsalt failid, mille ette server paneb http-päi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120" indent="-285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t (fail) võetakse reeglina ka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29280" indent="-23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masoleva failina arvuti kett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29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29280" indent="-23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na, mille teeb iga kord uuesti mõni programm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29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973080" indent="-23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võib olla külge-ehit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va-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serverile (php, mod-perl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973080" indent="-23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i käia kohe eri-veebiserveri sees (java tomcat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973080" indent="-23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või olla eraldi programm, mille server käivitab (klassikalised cgi-programmi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973080" indent="-23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mbinatsioonid serverite ahelatega on ka kasutus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973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973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8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8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36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saatmine serverile: cg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-i lõpus (peale ?) oleva teksti saab serveri kutsutav programm (nn cgi-programm) kät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 saadab vormi info cgi-kodeeritult nii: a=1&amp;b=35 jne, kus a ja b jne on välja nimed, võrduse järel aga kasutaja sisestatud väärt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ne url cgi parameetrite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6.py?a=1&amp;b=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8.py?a=12&amp;b=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t lisaks ja detaile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ambda.ee/wiki/Cgi_exampl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41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rauser oskab mitut keel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3280" indent="-321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ga normaalne brauser mõistab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32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32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Põhiasjad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s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32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satehnoloogiad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WebGL graafika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Canva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Video ja audio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Väikesed andmebaasid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4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7-11-09T05:42:24Z</dcterms:modified>
  <cp:revision>28</cp:revision>
  <dc:subject/>
  <dc:title> </dc:title>
</cp:coreProperties>
</file>